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1AD1-E9A6-4F6C-9A3C-DE158897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3255-6C35-43D4-B811-19C88F91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A730-F291-4CFE-AFEF-74DF67FD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184-DB0D-4C00-A38E-88C18917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C66-32E9-46AB-BDD4-77D9FB75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930A-979A-4225-9B86-17B23BC4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1BF4-4E01-4B8E-980E-137697A0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35B9-E662-417D-9DB4-C6B342E7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B41-ED57-4401-A5D7-3C2B7823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67ED-7EBF-4103-9E61-E3092CFB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82D8-F7DB-4001-997E-4F804452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A77-2CAD-420D-BB3B-234E2DFF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lvl="2" marL="1108440" indent="-221400">
              <a:lnSpc>
                <a:spcPct val="120000"/>
              </a:lnSpc>
              <a:spcBef>
                <a:spcPts val="700"/>
              </a:spcBef>
              <a:buClr>
                <a:srgbClr val="494983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lvl="3" marL="1551960" indent="-221400">
              <a:lnSpc>
                <a:spcPct val="120000"/>
              </a:lnSpc>
              <a:spcBef>
                <a:spcPts val="700"/>
              </a:spcBef>
              <a:buClr>
                <a:srgbClr val="3e688e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42426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42426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42426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808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隶书"/>
                <a:ea typeface="隶书"/>
              </a:rPr>
              <a:t>第</a:t>
            </a:r>
            <a:r>
              <a:rPr b="1" lang="zh-CN" sz="1800" spc="-1" strike="noStrike">
                <a:solidFill>
                  <a:srgbClr val="009900"/>
                </a:solidFill>
                <a:latin typeface="隶书"/>
                <a:ea typeface="隶书"/>
              </a:rPr>
              <a:t>5</a:t>
            </a:r>
            <a:r>
              <a:rPr b="1" lang="zh-CN" sz="1800" spc="-1" strike="noStrike">
                <a:solidFill>
                  <a:srgbClr val="009900"/>
                </a:solidFill>
                <a:latin typeface="隶书"/>
                <a:ea typeface="隶书"/>
              </a:rPr>
              <a:t>章  电子商务的网络营销</a:t>
            </a:r>
            <a:endParaRPr b="0" lang="en-US" sz="1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609480"/>
            <a:ext cx="1828800" cy="0"/>
          </a:xfrm>
          <a:prstGeom prst="line">
            <a:avLst/>
          </a:prstGeom>
          <a:ln w="38160">
            <a:solidFill>
              <a:srgbClr val="cc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219320" y="609480"/>
            <a:ext cx="1752480" cy="0"/>
          </a:xfrm>
          <a:prstGeom prst="line">
            <a:avLst/>
          </a:prstGeom>
          <a:ln w="38160">
            <a:solidFill>
              <a:srgbClr val="cc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494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24262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24262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3e6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24262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1c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24262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24262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2659c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659c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2659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659c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2659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4715-207E-4A72-8114-626F4EDE3F35}" type="slidenum">
              <a:rPr b="0" lang="zh-CN" sz="1400" spc="-1" strike="noStrike">
                <a:solidFill>
                  <a:srgbClr val="22659c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22.xml"/><Relationship Id="rId8" Type="http://schemas.openxmlformats.org/officeDocument/2006/relationships/slide" Target="slide22.xml"/><Relationship Id="rId9" Type="http://schemas.openxmlformats.org/officeDocument/2006/relationships/slide" Target="slide26.xml"/><Relationship Id="rId10" Type="http://schemas.openxmlformats.org/officeDocument/2006/relationships/slide" Target="slide26.xml"/><Relationship Id="rId11" Type="http://schemas.openxmlformats.org/officeDocument/2006/relationships/slide" Target="slide33.xml"/><Relationship Id="rId12" Type="http://schemas.openxmlformats.org/officeDocument/2006/relationships/slide" Target="slide33.xml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" Target="slide29.xml"/><Relationship Id="rId8" Type="http://schemas.openxmlformats.org/officeDocument/2006/relationships/slide" Target="slide29.xml"/><Relationship Id="rId9" Type="http://schemas.openxmlformats.org/officeDocument/2006/relationships/slide" Target="slide29.xml"/><Relationship Id="rId10" Type="http://schemas.openxmlformats.org/officeDocument/2006/relationships/slide" Target="slide29.xml"/><Relationship Id="rId11" Type="http://schemas.openxmlformats.org/officeDocument/2006/relationships/slide" Target="slide29.xml"/><Relationship Id="rId12" Type="http://schemas.openxmlformats.org/officeDocument/2006/relationships/slide" Target="slide29.xml"/><Relationship Id="rId1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4.xml"/><Relationship Id="rId5" Type="http://schemas.openxmlformats.org/officeDocument/2006/relationships/slide" Target="slide34.xml"/><Relationship Id="rId6" Type="http://schemas.openxmlformats.org/officeDocument/2006/relationships/slide" Target="slide39.xml"/><Relationship Id="rId7" Type="http://schemas.openxmlformats.org/officeDocument/2006/relationships/slide" Target="slide39.xml"/><Relationship Id="rId8" Type="http://schemas.openxmlformats.org/officeDocument/2006/relationships/slide" Target="slide39.xml"/><Relationship Id="rId9" Type="http://schemas.openxmlformats.org/officeDocument/2006/relationships/slide" Target="slide39.xml"/><Relationship Id="rId10" Type="http://schemas.openxmlformats.org/officeDocument/2006/relationships/slide" Target="slide39.xml"/><Relationship Id="rId11" Type="http://schemas.openxmlformats.org/officeDocument/2006/relationships/slide" Target="slide39.xml"/><Relationship Id="rId1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85818.com.cn/" TargetMode="External"/><Relationship Id="rId2" Type="http://schemas.openxmlformats.org/officeDocument/2006/relationships/hyperlink" Target="http://www.85818.com.cn/" TargetMode="Externa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85818.com.cn/" TargetMode="External"/><Relationship Id="rId3" Type="http://schemas.openxmlformats.org/officeDocument/2006/relationships/hyperlink" Target="http://www.85818.com.cn/" TargetMode="Externa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  <a:ea typeface="黑体"/>
              </a:rPr>
              <a:t>5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  <a:ea typeface="黑体"/>
              </a:rPr>
              <a:t>章  电子商务的网络营销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133360" y="2057400"/>
            <a:ext cx="5181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5.1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市场和营销理念的变迁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5.2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网络营销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.3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网络营销模式与策略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5.4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网络营销技术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5.5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网上购物流程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5.6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网上营销实例分析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80" name="">
            <a:hlinkClick r:id="rId13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9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B to B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B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营销模式：即企业与企业之间通过专用网络或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Internet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进行数据信息的交换、传递，开展贸易活动的网络营销模式。它包括企业采购部门与其供应商之间的业务协调；物料计划部门与仓储，运输公司间的业务协调；等等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B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的特点是：它是电子商务中历史最长、发展最完善的商业模式，它能迅速地带来利润和回报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B to G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G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含义：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即政府与企业之间的通过网络所进行的交易活动，比如电子通关、电子纳税以及政府向企业采购等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G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特点：迅速和信息量大。由于商业活动在网上进行，使得企业可以随时随地了解政府的动向，还能减少中间环节的时间延误和费用，提高政府办公的公开性和透明度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2.3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络营销的特点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网络营销与传统市场营销的差别：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产品 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价格 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销售  、促销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决策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网络营销的特点：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吸引用户手段多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营销策略层次多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集成功能方法多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2.4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上购物存在的问题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传统的消费意识和消费习惯问题、网上购物安全问题、付款问题、网络的接入率相对较低等。目前，我国多数网上销售采用网上订购、邮局汇款，这并不是完整的网上购物。安全问题在国际上已经有了解决方案，关键是如何把它们应用到零售商店的服务器上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3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络营销模式与策略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133720" y="2133720"/>
            <a:ext cx="5867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5.3.1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网络营销模式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5.3.2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网络营销策略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.3.3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创造网络环境下的竞争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15" name="">
            <a:hlinkClick r:id="rId7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3.1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络营销模式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商业信息传播模式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全新的广告模式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：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注重对网址的宣传、双向式的网络分类广告形式、以丰富、详实的商品分类信息为主、智能化的信息传递手段、身临其境的多媒体形式、电子时空下的信息服务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商品信息的分类和管理：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严格科学的商品信息分类，多方位、丰富、全面的商品／产品信息和简便、灵活、实用、快捷甚至智能化的信息查询方法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．网上营销运作模式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根据网上商品交易流程来分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：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网络商品直销、网络商品中介交易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从网上销售的产品性质来分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：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间接网上营销、直接网上营销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根据网上购物的营销对象来划分：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零售商销售模式、顾客购买模式。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752120" y="2133360"/>
            <a:ext cx="53341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网上销售企业的收益模式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收取服务费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会员制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降低价格，扩大销售量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3.2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络营销策略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产品策略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 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注意产品从“物质”到“理念”的变化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注意产品寿命周期的变化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1752120" y="1600200"/>
            <a:ext cx="5334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定价策略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产品定价策略的变化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价格战略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顾客需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企业各部门的协调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有效的数据分析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1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市场和营销理念的变迁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5.1.1  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T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技术引发的时空观念的变化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5.1.2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市场信息传播模式的变化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5.1.3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市场性质的变化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5.1.4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消费者概念和行为的变化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83" name="">
            <a:hlinkClick r:id="rId10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网络促销组合策略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Internet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将是今后企业对外宣传、联系的窗口和营销运作的重要途径。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从商业运作模式变化中寻求新的营销策略       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网络上用丰富的商品信息资源吸引用户，如何使所开发出的电子商务系统既安全又方便于消费者购买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3.3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创造网络环境下的竞争优势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建立企业的信息优势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研究充分利用信息优势的方法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重组企业的组织机构和商务运作过程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将这种信息优势直接转化为竞争优势或利润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4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络营销技术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981080" y="2133360"/>
            <a:ext cx="6477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5.4.1  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Web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上的营销技术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5.4.2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“虚拟现实”网络营销技术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31" name="">
            <a:hlinkClick r:id="rId6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4.1  </a:t>
            </a:r>
            <a:r>
              <a:rPr b="1" lang="en-US" sz="3600" spc="-1" strike="noStrike">
                <a:solidFill>
                  <a:srgbClr val="ff66cc"/>
                </a:solidFill>
                <a:latin typeface="Arial"/>
              </a:rPr>
              <a:t>Web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上的营销技术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利用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E-mail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传递商务单证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利用动画和图像制作广告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通过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BBS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吸引客户和启发灵感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利用导航器和搜索引擎实现促销意图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导航器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搜索引擎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1447920" y="22856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提供各种类型的信息数据库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发挥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Web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菜单的导购作用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提供电子化的网络支付工具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4.2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虚拟现实”网络营销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虚拟现实（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Virtual Reality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是一种可以创建和体验虚拟世界的技术，它生成各种虚拟环境，作用于人的感官，使人产生亲临其境的感觉。虚拟现实技术用于网络营销，我们不仅可以观看商品图像，还可以观察商品内部，进行操作演示，甚至“亲自”参观生产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5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上购物流程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5.5.1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网上销售界面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5.5.2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个人消费者网上购物过程（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B to C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）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5.5.3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企业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—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企业网上购物过程（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B to B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）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040" y="9144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5.1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上销售界面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顾客和零售商界面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功能：商店运作、顾客服务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零售商和供应商界面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功能：订货、存货、发货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零售商管理界面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功能：商业情报和商品计划、微观营销、品牌管理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5.5.2  </a:t>
            </a:r>
            <a:r>
              <a:rPr b="1" lang="zh-CN" sz="3200" spc="-1" strike="noStrike">
                <a:solidFill>
                  <a:srgbClr val="ff66cc"/>
                </a:solidFill>
                <a:latin typeface="Times New Roman"/>
              </a:rPr>
              <a:t>个人消费者网上购物过程（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B to C</a:t>
            </a:r>
            <a:r>
              <a:rPr b="1" lang="en-US" sz="3200" spc="-1" strike="noStrike">
                <a:solidFill>
                  <a:srgbClr val="ff66cc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905120" y="2133720"/>
            <a:ext cx="4952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访问网络商店主页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寻找所需商品的信息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决定购买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支付价款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5.5.3  </a:t>
            </a:r>
            <a:r>
              <a:rPr b="1" lang="zh-CN" sz="3200" spc="-1" strike="noStrike">
                <a:solidFill>
                  <a:srgbClr val="ff66cc"/>
                </a:solidFill>
                <a:latin typeface="Times New Roman"/>
              </a:rPr>
              <a:t>企业</a:t>
            </a: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66cc"/>
                </a:solidFill>
                <a:latin typeface="Times New Roman"/>
              </a:rPr>
              <a:t>企业网上购物过程（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B to B)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客户方向供货方提出商品报价请求，说明想购买的商品信息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供货方向客户方回答该商品的报价，说明该商品的报价信息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客户向供货方提出商品定购单，说明初步确定购买的商品信息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1.1  </a:t>
            </a:r>
            <a:r>
              <a:rPr b="1" lang="en-US" sz="3600" spc="-1" strike="noStrike">
                <a:solidFill>
                  <a:srgbClr val="ff66cc"/>
                </a:solidFill>
                <a:latin typeface="Arial"/>
              </a:rPr>
              <a:t>IT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技术引发的时空观念的变化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信息技术和网络技术在商务中的应用，极大地促进了整个组织和管理领域的变革。当代信息技术和网络技术在商务领域应用的产物就是电子商务。电子商务系统的运作导致人们时空观念的变化。我们将要受到两种不同时空观念的影响。一种是传统意义上的时空观，一种是信息网络时代的时空观。时空观念的重组对于市场营销策略的制定和商业竞争是十分重要的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供货方向客户提出商品定购单应答，说明有无此商品及规格型号、品种、质量等信息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客户方根据应答提出是否对定购单有变更请求，说明最后确定购买商品的信息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客户向供货方提出商品运输说明，说明运输工具、交货地点等信息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供货方向客户发出发货通知，说明运输公司、交货地点、运输设备、包装等信息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客户向供货方反馈收货通知，报告收货信息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交易双方收发汇款通知，买方发出汇款通知，卖方报告收款信息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供货方向客户发送电子发票，完成全部交易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36708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624640" cy="51134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7394400" y="1219320"/>
            <a:ext cx="546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5-1  </a:t>
            </a:r>
            <a:r>
              <a:rPr b="1" lang="en-US" sz="2400" spc="-1" strike="noStrike">
                <a:solidFill>
                  <a:srgbClr val="424262"/>
                </a:solidFill>
                <a:latin typeface="Times New Roman"/>
              </a:rPr>
              <a:t>B to B</a:t>
            </a: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网上购物过程</a:t>
            </a: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Arial"/>
              </a:rPr>
              <a:t>5.6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上营销实例分析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5.6.1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上海正广和网上购物中心（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www.85818.com.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cn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）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5.6.2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阿里巴巴电子商务网站（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www.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alibaba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.com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）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5.6.1  </a:t>
            </a:r>
            <a:r>
              <a:rPr b="1" lang="zh-CN" sz="3200" spc="-1" strike="noStrike">
                <a:solidFill>
                  <a:srgbClr val="ff66cc"/>
                </a:solidFill>
                <a:latin typeface="Times New Roman"/>
              </a:rPr>
              <a:t>上海正广和网上购物中心（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85818.com.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cn</a:t>
            </a:r>
            <a:r>
              <a:rPr b="1" lang="en-US" sz="3200" spc="-1" strike="noStrike">
                <a:solidFill>
                  <a:srgbClr val="ff66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公司简介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于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1998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月份成立的有限责任公司，公司目前注册资本为人民币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4000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万元。它所拥有的正广和销售网络既适应国情拥有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85818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人工电话、语音自动订购热线，又和国际接轨开通了因特网企业网站（正广和网上购物中心主页见图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5-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，通过在北京、广州等大城市建网逐步面向全国辐射，开展“电子商务”活动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251460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876560" cy="364644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752480" y="556272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5-2  </a:t>
            </a: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正广和网上购物中心的因特网主页</a:t>
            </a: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424262"/>
                </a:solidFill>
                <a:latin typeface="Times New Roman"/>
              </a:rPr>
              <a:t>www.85818.com.cn)</a:t>
            </a: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营销特点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商品的多样化为顾客提供了较大的选择空间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特色服务让顾客情有独钟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现存问题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缺乏完善的在线结算系统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缺乏系统化、专业化的全国性货物配送和物流系统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51460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257800" cy="35812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600200" y="53341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5-3  </a:t>
            </a: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正广和网上购物中心商品目录（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85818.com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cn</a:t>
            </a:r>
            <a:r>
              <a:rPr b="1" lang="en-US" sz="2400" spc="-1" strike="noStrike">
                <a:solidFill>
                  <a:srgbClr val="424262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对于问题应采取的措施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ASN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首先要解决的是电子商务网上支付的问题。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ASN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可以引进外国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B to C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网站的经验及设备或软件，并采用各种宣传方式来打消消费者的顾虑，推行信用卡网上支付结算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ASN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其次要解决的是其物流和配送问题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ASN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可向全国招标，选取有实力的本土公司（如邮政快递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EMS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或某些有经验的外资公司作为物流代理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Arial"/>
              </a:rPr>
              <a:t>5.6.2  </a:t>
            </a: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阿里巴巴电子商务网站（</a:t>
            </a:r>
            <a:r>
              <a:rPr b="1" lang="en-US" sz="2800" spc="-1" strike="noStrike">
                <a:solidFill>
                  <a:srgbClr val="ff66cc"/>
                </a:solidFill>
                <a:latin typeface="Arial"/>
              </a:rPr>
              <a:t>www.alibaba.com</a:t>
            </a:r>
            <a:r>
              <a:rPr b="1" lang="en-US" sz="2800" spc="-1" strike="noStrike">
                <a:solidFill>
                  <a:srgbClr val="ff66cc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概况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阿里巴巴目前成功地运作了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个相互关联的网站：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覆盖全球国际贸易的英文站点（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www.alibaba.com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） 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立足于中国大陆市场的简体中文站点（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www.china.alibaba.com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参见图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5-4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针对全球华商的繁体中文站点（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www.chinese.alibaba.com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1.2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市场信息传播模式的变化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双向的信息传播摸式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推拉互动的信息供需模式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多媒体信息传播模式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83356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pic>
        <p:nvPicPr>
          <p:cNvPr id="473" name="dz3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181480" cy="38908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2362320" y="556272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5-4  </a:t>
            </a: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阿里巴巴简体中文网站（</a:t>
            </a:r>
            <a:r>
              <a:rPr b="1" lang="en-US" sz="2400" spc="-1" strike="noStrike">
                <a:solidFill>
                  <a:srgbClr val="424262"/>
                </a:solidFill>
                <a:latin typeface="Times New Roman"/>
              </a:rPr>
              <a:t>www.china.alibaba.com</a:t>
            </a:r>
            <a:r>
              <a:rPr b="1" lang="en-US" sz="2400" spc="-1" strike="noStrike">
                <a:solidFill>
                  <a:srgbClr val="424262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公司发展战略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阿里巴巴创立伊始，创始人就根据他们在因特网上的经验明确了其发展方向，即为商人建立一个全球最大的网上商业机会信息交流站点。作为发展战略的一部分，阿里巴巴的中国战略就是为中国企业走向世界服务。为此，他们推出了国内第一个有关行业加入世贸组织的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WTO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频道。阿里巴巴将始终帮助中国中小企业全面铺平“入世”之路，同时关注中国的东西部信息交流并提供一个专业的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EC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平台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公司核心业务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阿里巴巴所独创的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B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模式实际上是主要面向中小企业的平台意义上的电子市场（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EM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）。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它是由中介机构即阿里巴巴建网，主要面向中小企业提供产品的采购、信息和销售等方面的服务，它可以协助企业采购人员和供应商直接见面，并能够追踪供应商品的种类和价格的变化，从而大大简化企业间的业务流程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公司面临的主要问题及采取的措施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首先，阿里巴巴在自身的营销方面做得还不够。如果有一些最具实力的企业加盟，网站上的信息的可信度就会得到极大提升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其次，网站内容存在太多的泡沫。可以借鉴区分为会员与非会员的思路将公司库分成若干级别，并依据成交等的实际情况对级别进行动态管理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再次，阿里巴巴目前支持的语言种类较少，只有英语、简繁体中文两种语言。对此，阿里巴巴即将推出，国际站点和中国站点将实现信息共享。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最后，阿里巴巴网站不提供网上交割和支付这一环节。到目前为止，只有环球资源等少数网站能提供全方位的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B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电子贸易解决方案和从采购直至航运的全套供应链服务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阿里巴巴发展前景分析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阿里巴巴找到了一个极佳的进军信息技术产业（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IT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业）的切入点。随着第二轮融资的实施，加上不断改善的电子商务的大环境——电子商务的意识、网络基础设施、网络安全与保障等，阿里巴巴有着良好的发展前景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ANK YOU VERY MUCH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1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24262"/>
                </a:solidFill>
                <a:latin typeface="Arial"/>
              </a:rPr>
              <a:t>本章到此结束，</a:t>
            </a:r>
            <a:endParaRPr b="1" lang="en-US" sz="5400" spc="-1" strike="noStrike">
              <a:solidFill>
                <a:srgbClr val="424262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24262"/>
                </a:solidFill>
                <a:latin typeface="Arial"/>
              </a:rPr>
              <a:t>谢谢您的光临！</a:t>
            </a:r>
            <a:endParaRPr b="1" lang="en-US" sz="54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83" name="">
            <a:hlinkClick r:id="rId1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9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endshow"/>
          </p:cNvPr>
          <p:cNvSpPr/>
          <p:nvPr/>
        </p:nvSpPr>
        <p:spPr>
          <a:xfrm>
            <a:off x="5843520" y="628452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9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1.3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市场性质的变化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3880" y="2133720"/>
            <a:ext cx="701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生产厂商和消费者的直接网上交易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市场的多样化、个性化和时变化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市场细分的彻底化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商品流通和交易方式的改变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1.4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消费者概念和行为的变化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消费者从大众中分离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消费者直接参与生产和商业流通循环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大范围的选择和理性的购买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2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络营销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514600" y="2057400"/>
            <a:ext cx="5105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5.2.1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网络营销的概念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5.2.2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网络营销的种类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.2.3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网络营销的特点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5.2.4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网上购物存在的问题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98" name="">
            <a:hlinkClick r:id="rId9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2.1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络营销的概念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网络营销就是指企业通过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Internet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销售产品。网络营销有很多种，但主要有企业向个人销售（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C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），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即网上零售；企业向企业销售产品（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B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），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即企业间的商品购销；以及政府向企业采购，即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G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等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2.2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络营销的种类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B to C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C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含义：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即企业与消费者在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的虚拟环境中进行的营销活动。主要包括：有形商品的电子订货、电子支付和物流配送；无形商品和服务产品的销售和支付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C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的特点是：供需直接见面、信息量大、费用低、迅速快捷且能吸引公众和媒体的注意力，是最富于创造力的领域之一，也是竞争最为激烈的领域之一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5:10:42Z</dcterms:created>
  <dc:creator>li</dc:creator>
  <dc:description/>
  <dc:language>en-US</dc:language>
  <cp:lastModifiedBy>新人电脑</cp:lastModifiedBy>
  <dcterms:modified xsi:type="dcterms:W3CDTF">2002-02-01T03:25:57Z</dcterms:modified>
  <cp:revision>19</cp:revision>
  <dc:subject/>
  <dc:title>第5章  电子商务的网络营销</dc:title>
</cp:coreProperties>
</file>